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A6DC-55F4-4F1B-BBC1-3BD3C59B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3FD7-3234-404E-AED8-0C425E90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81D0-7D78-4A43-A158-9804DD69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923F-0E09-4343-A2CF-98DADA5A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EFAC-1742-4571-8C5C-26326E08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ABAB-1983-4BF2-B44A-18E38BBD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F321-0C66-4C66-8E55-D8FA475D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A108-7283-4D18-A458-723465D1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A330-653F-48DF-A882-36A526C9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BBD9-8018-4A0B-B4BD-9AAEDF98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C6CE-8457-4CC1-91C4-F605748D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E01D-2CB6-4FDB-B1A5-54F8F430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4C0D-3ED8-4445-8FD0-B8F42546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A294-ED43-4393-B151-AB809662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3C15-D22A-4CDC-9E08-D90B02BB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6FAD-1FFE-4006-81A3-405A2CEE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12B8-BA3B-4502-845B-7E018F98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11FA-B7F3-462C-9DB5-CEC1CA06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21DC-FA41-40C8-B68A-5B9ABE97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5EA2-80C6-4ADE-AA4E-E274A915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762F-D1B5-4A72-83C6-04185059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B20B-A72C-4C76-BDBC-07AD5064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F96-1D85-4232-A866-1932E94C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E58-B208-45F6-A24D-01A8249B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132B-BF1F-414E-B6A1-B8E570746F1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72A0-429E-404E-8CA9-6A5A90EFD0E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89480" y="789120"/>
            <a:ext cx="7565040" cy="19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999900"/>
                </a:solidFill>
                <a:latin typeface="Garamond"/>
              </a:rPr>
              <a:t>Modelo de Programaci</a:t>
            </a:r>
            <a:r>
              <a:rPr b="0" lang="es-BO" sz="5300" spc="-1" strike="noStrike">
                <a:solidFill>
                  <a:srgbClr val="999900"/>
                </a:solidFill>
                <a:latin typeface="Garamond"/>
              </a:rPr>
              <a:t>ón de la Producción en Tintorería</a:t>
            </a:r>
            <a:endParaRPr b="0" lang="en-US" sz="5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8600" y="327024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000" spc="-1" strike="noStrike">
                <a:solidFill>
                  <a:srgbClr val="000000"/>
                </a:solidFill>
                <a:latin typeface="Verdana"/>
              </a:rPr>
              <a:t>Caso: Fábrica Textil UNIVERSALTEX S.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4648320"/>
            <a:ext cx="1828800" cy="1096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077360" y="5105520"/>
            <a:ext cx="456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Alumno: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Abel Gonzalo Salinas Colum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Profesor Tutor: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Andrés Weintra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Proceso de Planificación de Inquirie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edidos en sistema con información muy general (mediano a largo plazo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Reserva de capacidades en Knitting Program. Tintorería como caja negr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Creación en sistema de ordenes genéricas copiando las reservas y considerando Tintorería como máquina virtu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e reportan fechas de despacho de tela y flex d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Proceso de Planificación de AP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querimientos definitivos de tela por sistema y en detalle (corto a mediano plaz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emplazo de ordenes de Inqs por muchas ordenes de APs. Un Inq puede estar formado por uno o más A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emplazo Inqs por APs en Knitting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requerimiento de materiales y de algunas cargas en Tintorer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servas en el Programa de Tintorería, reservando máquinas a las carg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Se reportan nuevas fechas de despacho de te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Proceso de Programación de AP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Ejecución de ordenes de acuerdo a cálculos y Programas de Tintorería y Tejedur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Subdivisión de órdenes asignándoles máquinas en Tejedur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reación de Dyelots por color o estilo, en función al cálculo de cargas o con crite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signación de material a ordenes de acuerdo a su disponi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ctualización del Programa de Tintorería con nuevos Dyelots o reemplazando cargas por Dyelo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opia del Programa de Tintorería e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Se reportan retrasos y estado de ped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EL PROBLEMA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Sistemas Alternos (Hojas Electrónicas)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Se utilizan en actividades com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lanificación y Programación de Tejeduría (Knitting Progra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lanificación y Programación de Tintorer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materi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cargas de Tintorer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capac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químicos y color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Determinación de fech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EL PROBLEMA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¿Por qué Sistemas Alternos?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El sistema ERP actual carece 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Medios visuales apropi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Facilidad en el cambio de prior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Identificación clara de pedidos y espacios asign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onsideración de capacidades fini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Un programa de tintorería automático, con información útil y fácil de prioriz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Herramientas para optimizar la program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EL PROBLEMA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EN RESUME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El sistema ERP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No es la única fuente de 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No es el único medio para ingresar da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sí, no puede ser aprovechado para responder rápidamente al cli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Tampoco para mejorar la puntualidad en la entrega de product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0000"/>
                </a:solidFill>
                <a:latin typeface="Verdana"/>
              </a:rPr>
              <a:t>Aún así mantiene grandes cantidades de información útil y muy relevante, pero que no puede aprovechar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EL PROBLEMA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EN RESUME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Los sistemas altern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ermiten realizar de manera eficaz las actividades de planificación y progra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Son muy dependientes de las personas que los manej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Además son alimentados en gran parte con información del sistema ERP aunque manual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No todas sus soluciones son copiadas al sistema ER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an soluciones miopes y sub-óptimas a corto plazo y sin considerar todas las variables releva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ff0000"/>
                </a:solidFill>
                <a:latin typeface="Verdana"/>
              </a:rPr>
              <a:t>No están integrados con el sistema ER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EL CASO DE TEJEDURÍ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2846520"/>
            <a:ext cx="4114800" cy="3097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724280" y="28954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87320" y="6033960"/>
            <a:ext cx="38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Visual Interactive Planning (V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853960" y="5958000"/>
            <a:ext cx="22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Knitting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600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dquisición del módulo VIP que eventualmente reemplazaría al Knitt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¿</a:t>
            </a: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EL CASO DE TINTORERÍA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3520" y="1635120"/>
            <a:ext cx="8076960" cy="3699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80880" y="5410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ROGRAMA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s-BO" sz="2800" spc="-1" strike="noStrike">
                <a:solidFill>
                  <a:srgbClr val="000000"/>
                </a:solidFill>
                <a:latin typeface="Verdana"/>
              </a:rPr>
              <a:t>Modelo de Programación de la Producción en Tintorerí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odelo de Programación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ebe ser desarrollado también como sistema alte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ero integrado con el sistema E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ebe permitir una visualización completa de la utilización de la cap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l Probl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Solu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jetivo Gen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eguntas o D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idea 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eterminar diariamente o cuando se requiera, la secuencia de </a:t>
            </a:r>
            <a:r>
              <a:rPr b="0" lang="es-BO" sz="2800" spc="-1" strike="noStrike">
                <a:solidFill>
                  <a:srgbClr val="ff0000"/>
                </a:solidFill>
                <a:latin typeface="Verdana"/>
              </a:rPr>
              <a:t>TODOS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 los Dyelots pendientes a procesarse de la manera </a:t>
            </a:r>
            <a:r>
              <a:rPr b="0" lang="es-BO" sz="2800" spc="-1" strike="noStrike">
                <a:solidFill>
                  <a:srgbClr val="ff0000"/>
                </a:solidFill>
                <a:latin typeface="Verdana"/>
              </a:rPr>
              <a:t>“más conveniente”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 po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ujet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Capacidades mínima y máxima de cada máqu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ecuencia de col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ioridad de acuerdo al inicio del proceso siguiente según el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isponibilidad de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isponibilidad de químicos y color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spacios disponi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ujet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Visión de Aps compl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istinción entre APs planificados y program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Consideración de Inquiries y su reserva en una máquina virt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cesos y du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Tipo de tela, etc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Función Objeti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inimizar el tiempo total de retr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inimizar costos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0000"/>
                </a:solidFill>
                <a:latin typeface="Verdana"/>
              </a:rPr>
              <a:t>Maximizar la utilización de la cap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 ADICIONAL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s entradas del modelo propuesto serían los Dyelo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carga de los Dyelots se calcula man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propuesta adicional serí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odelo para optimizar y automatizar el cálculo del tamaño de los Dyelo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OBJETIVOS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OBJETIVO GENERAL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Brindar información completa, útil, oportuna y lo más aproximada a la realidad posible basada en soluciones óptimas y objetivas de tal modo que permita tomar decisiones de manera más rápida y coher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OBJETIVOS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OBJETIVOS ESPECÍFIC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Utilizar de manera óptima la capacidad de tintore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ermitir decisiones acerca de la viabilidad de nuevos compromisos o adelantos de otros según se requi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ejorar la calidad de la información debiendo ser el reflejo de lo que sucede en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eterminar verdaderos requerimientos de químicos y color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otenciar el uso del sistema E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Fomentar la actualización de información en el sistema E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Lograr soluciones óptimas de manera objetiva y relativamente ráp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Automatizar los procesos de planificación y program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EGUNTAS O DUD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743200" y="256068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Descripción de la Empresa – Ametex S.A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Compañía fundada en 1965 en la ciudad de La Paz y considerada la empresa textil más importante de Boliv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Cadena textil integrada verticalmente en torno a ocho pla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rocesos desde el hilado hasta la costura y acabado de prendas de vestir de algod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a empleo a 2.400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Ventas anuales de 35 millones de dóla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77% de las ventas corresponden a exportaciones principalmente a Estados Un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roducción de ocho millones de prendas anualmente para marcas como Polo Ralph Lauren, Polo Kids y Express principal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Cuenta con un sistema ERP especializado en texti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Descripción de Universaltex S.A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Fábrica textil que forma parte de la compañía Amete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Aproximadamente 400 emple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cesos principales: tejido, tintorería, secado y acab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ateria prima: hilo de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ducto terminado: variedades de tela acabada de pu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Mercado Textil y de Prendas de Vestir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ercado sofisticado que demanda innovaciones más frecuentes, mayor exclusividad, mayor variedad y mejor servi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Necesidades futuras cada vez más inciertas y sujetas a cambios más frecue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urgimiento de mercados externos y por ende liberalización comerc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Misión de la Compañía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UMINISTRAR A NUESTROS CLIENTES CON PRODUCTOS TEXTILES DE GRAN CALIDAD Y EN UN </a:t>
            </a:r>
            <a:r>
              <a:rPr b="0" lang="es-BO" sz="2800" spc="-1" strike="noStrike">
                <a:solidFill>
                  <a:srgbClr val="ff0000"/>
                </a:solidFill>
                <a:latin typeface="Verdana"/>
              </a:rPr>
              <a:t>TIEMPO OPORTUNO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Que se manifiesta 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cnología moderna para los equipos de produc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Laboratorio completamente equipado para el aseguramiento de la calida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Aseguramiento de la calidad en la línea, realizado por auditores certifica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Entrenamiento y motiva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0000"/>
                </a:solidFill>
                <a:latin typeface="Verdana"/>
              </a:rPr>
              <a:t>Sistema de información basado en un ERP especializado en la industria textil y de confeccio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8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Cadena Textil Integrada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15200" y="1523880"/>
            <a:ext cx="94608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302600" y="5334120"/>
            <a:ext cx="97956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838080" y="1676520"/>
            <a:ext cx="2645640" cy="2209680"/>
            <a:chOff x="838080" y="1676520"/>
            <a:chExt cx="2645640" cy="2209680"/>
          </a:xfrm>
        </p:grpSpPr>
        <p:sp>
          <p:nvSpPr>
            <p:cNvPr id="108" name=""/>
            <p:cNvSpPr/>
            <p:nvPr/>
          </p:nvSpPr>
          <p:spPr>
            <a:xfrm rot="16200000">
              <a:off x="914400" y="20574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cc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914400" y="25146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6200000">
              <a:off x="914400" y="34290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914400" y="29718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6200000">
              <a:off x="914400" y="16002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24520" y="1676520"/>
              <a:ext cx="199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Fibra de algod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78080" y="2133720"/>
              <a:ext cx="60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Hi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90320" y="25909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Te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40720" y="3505320"/>
              <a:ext cx="20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Prendas de vest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28480" y="304812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Piezas corta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648320" y="1676520"/>
            <a:ext cx="1904760" cy="68580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2895480"/>
            <a:ext cx="190476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UNIVERSAL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4114800"/>
            <a:ext cx="190476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MA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114800"/>
            <a:ext cx="190476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M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5334120"/>
            <a:ext cx="190512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M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4114800"/>
            <a:ext cx="190476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B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24382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365760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863600">
            <a:off x="2819520" y="48769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48769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48769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962160" y="533376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8483000">
            <a:off x="4385880" y="474156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455200">
            <a:off x="4190760" y="33523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394400">
            <a:off x="6629400" y="33523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6705720" y="17524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876920" y="5257800"/>
            <a:ext cx="182556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8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Proceso de Fabricación de Tela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33526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Hilo Crud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Encon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19051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intor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de Hil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i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33526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jedu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irculare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Rectilín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3526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intor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la Sól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y Ray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01000" y="33526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Secad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cab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3352680"/>
            <a:ext cx="106704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la Cruda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repa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1000" y="19810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Despa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35812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3581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3581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35812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7391520" y="22093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8305560" y="2895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2133720"/>
            <a:ext cx="106668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ffff"/>
                </a:solidFill>
                <a:latin typeface="Verdana"/>
              </a:rPr>
              <a:t>C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3505320"/>
            <a:ext cx="106704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ffff"/>
                </a:solidFill>
                <a:latin typeface="Verdana"/>
              </a:rPr>
              <a:t>HIL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3581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600" y="4597560"/>
            <a:ext cx="364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o heather, cru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o crudo bl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o teñ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Cinta Cr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Cinta Teñ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o heather, crudo y teñ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044000" y="2535480"/>
            <a:ext cx="947160" cy="816840"/>
            <a:chOff x="1044000" y="2535480"/>
            <a:chExt cx="947160" cy="816840"/>
          </a:xfrm>
        </p:grpSpPr>
        <p:sp>
          <p:nvSpPr>
            <p:cNvPr id="154" name=""/>
            <p:cNvSpPr/>
            <p:nvPr/>
          </p:nvSpPr>
          <p:spPr>
            <a:xfrm rot="19127400">
              <a:off x="1248480" y="2901240"/>
              <a:ext cx="761760" cy="228240"/>
            </a:xfrm>
            <a:prstGeom prst="rightArrow">
              <a:avLst>
                <a:gd name="adj1" fmla="val 50000"/>
                <a:gd name="adj2" fmla="val 8343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8218800">
              <a:off x="1019160" y="2764800"/>
              <a:ext cx="762120" cy="228240"/>
            </a:xfrm>
            <a:prstGeom prst="rightArrow">
              <a:avLst>
                <a:gd name="adj1" fmla="val 50000"/>
                <a:gd name="adj2" fmla="val 8347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209680" y="2734560"/>
            <a:ext cx="384120" cy="549360"/>
            <a:chOff x="2209680" y="2734560"/>
            <a:chExt cx="384120" cy="549360"/>
          </a:xfrm>
        </p:grpSpPr>
        <p:sp>
          <p:nvSpPr>
            <p:cNvPr id="157" name=""/>
            <p:cNvSpPr/>
            <p:nvPr/>
          </p:nvSpPr>
          <p:spPr>
            <a:xfrm rot="16279200">
              <a:off x="2261520" y="2880000"/>
              <a:ext cx="469800" cy="183240"/>
            </a:xfrm>
            <a:prstGeom prst="rightArrow">
              <a:avLst>
                <a:gd name="adj1" fmla="val 50000"/>
                <a:gd name="adj2" fmla="val 6409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371200">
              <a:off x="2068200" y="2956680"/>
              <a:ext cx="469800" cy="183240"/>
            </a:xfrm>
            <a:prstGeom prst="rightArrow">
              <a:avLst>
                <a:gd name="adj1" fmla="val 50000"/>
                <a:gd name="adj2" fmla="val 6409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5238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2819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2819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514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2971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3809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0120" y="3809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2971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2438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07480" y="4572000"/>
            <a:ext cx="454860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cruda (sólida, rayada o heath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cruda prepa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teñida o la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seca y acab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de color, rayada y h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8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Flujos de Planificación y Programació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160020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omercia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15238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l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43200" y="39625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o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26668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Oper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3962520"/>
            <a:ext cx="106704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rogram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y Control T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39625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1905120"/>
            <a:ext cx="990720" cy="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26668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onfe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29200" y="525780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Hil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05740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9440" y="2342160"/>
            <a:ext cx="326880" cy="42120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37160" y="2418120"/>
            <a:ext cx="326880" cy="421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699000" y="2287440"/>
            <a:ext cx="374400" cy="392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3429000"/>
            <a:ext cx="0" cy="53352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34290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3429000"/>
            <a:ext cx="0" cy="53352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34290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4724280"/>
            <a:ext cx="0" cy="53352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4724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46680" y="2971800"/>
            <a:ext cx="99036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3124080"/>
            <a:ext cx="99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4267080"/>
            <a:ext cx="99036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934800" y="3367080"/>
            <a:ext cx="893520" cy="428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010760" y="3519720"/>
            <a:ext cx="893160" cy="428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62920" y="5257800"/>
            <a:ext cx="1295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T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4267080"/>
            <a:ext cx="99072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72400" y="4724280"/>
            <a:ext cx="0" cy="53352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2041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1 -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2953800">
            <a:off x="4235760" y="262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10 -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4692960" y="3534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6 -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4845240" y="48297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5 -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20045400">
            <a:off x="4115160" y="3733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2559240" y="361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3124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1660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1 -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8904800">
            <a:off x="3429360" y="2209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3016440" y="361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9 -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4267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302440" y="4906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6 -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5150160" y="361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20045400">
            <a:off x="3886560" y="3352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2743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3134400">
            <a:off x="4616640" y="239184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4267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4 -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131240" y="4906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3 -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3429000"/>
            <a:ext cx="0" cy="53352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3134400">
            <a:off x="4845240" y="2239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18040" y="2189520"/>
            <a:ext cx="326880" cy="4212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1676520"/>
            <a:ext cx="990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1432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5455080" y="361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563868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77880" y="54100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Planificación </a:t>
            </a: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de Inq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6019920"/>
            <a:ext cx="990720" cy="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64200" y="579132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Planificación</a:t>
            </a:r>
            <a:r>
              <a:rPr b="1" lang="es-BO" sz="1400" spc="-1" strike="noStrike">
                <a:solidFill>
                  <a:srgbClr val="006600"/>
                </a:solidFill>
                <a:latin typeface="Verdana"/>
              </a:rPr>
              <a:t> de 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6400800"/>
            <a:ext cx="99072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6760" y="6172200"/>
            <a:ext cx="27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Programaci</a:t>
            </a:r>
            <a:r>
              <a:rPr b="1" lang="es-BO" sz="1400" spc="-1" strike="noStrike">
                <a:solidFill>
                  <a:srgbClr val="000066"/>
                </a:solidFill>
                <a:latin typeface="Verdana"/>
              </a:rPr>
              <a:t>ón de APs en T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50436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FLUJOS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5029200"/>
            <a:ext cx="43434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3:12:04Z</dcterms:created>
  <dc:creator> Abel Gonzalo Salinas Columba</dc:creator>
  <dc:description/>
  <dc:language>en-US</dc:language>
  <cp:lastModifiedBy>julie lagos</cp:lastModifiedBy>
  <dcterms:modified xsi:type="dcterms:W3CDTF">2004-10-22T14:11:13Z</dcterms:modified>
  <cp:revision>137</cp:revision>
  <dc:subject/>
  <dc:title>Modelo de Programación de la Producción en Tintorerí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